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D3A0-CD06-42F2-B10F-8009D01C2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xt describes the characteristics of “typical” business guests and leisure gues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The text provides an example of each characteristic applied to lodging industr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960-19AF-427D-80B6-41114091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9EA3-5F05-4EC1-B731-71589228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38E-63F9-4DC8-AB79-DA708815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A57-C57F-471E-989C-FA2CAB29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18F0-3291-41F1-8436-02C59697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6B10-E3D2-4169-A1B3-4FFEC3ED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F93B-81C4-4AD3-A4E5-6AFD506C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2185-7A9D-4259-ABD9-23B9B26C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5442-3C1B-441C-985F-868B3353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C682-8199-4DC1-B0E2-FF5F938F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1C4D-BC97-4C31-B82F-FF681129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904-DE5D-4166-AB94-F005753D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2FDD-B1EF-4ED8-9E7E-4BF7A67F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86EA-AAB5-4EBB-8E89-EA965865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E44E-6223-4D9E-B39F-FB212CFC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E357-438F-4877-8B57-173D1044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CA7F-0730-41A0-8D40-562280C1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FE7-CD2A-4A8A-8358-888F160F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67A-C5C8-4FB5-BB56-7D96AAA6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76F-C455-4D09-ADB1-D39BCE33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F71-412F-43D7-8F4E-062D7C96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578-D97D-4702-B88C-F8ADDA48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571-55BF-4B1A-A016-F52315CB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4E11-A9B5-490F-9A83-795F91E9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147A-ED4B-4A78-9AAC-63EFDA044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FA93-BA8B-43A4-900B-8B1D2784B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goda.com/" TargetMode="External"/><Relationship Id="rId2" Type="http://schemas.openxmlformats.org/officeDocument/2006/relationships/hyperlink" Target="http://www.hyatt.com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RONT OFFICE HOTEL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42600" y="30715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The Hotel Guest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11" descr="j0330861[1]"/>
          <p:cNvPicPr/>
          <p:nvPr/>
        </p:nvPicPr>
        <p:blipFill>
          <a:blip r:embed="rId1">
            <a:grayscl/>
          </a:blip>
          <a:stretch/>
        </p:blipFill>
        <p:spPr>
          <a:xfrm>
            <a:off x="5292720" y="2994120"/>
            <a:ext cx="3103560" cy="30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oom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ividual booking cyc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time between when the individual reservation is made and when it is due to arriv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as the group base can be reserved far in advance, the individual booking cycle can be more short te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lk-in reserv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made by guests arriving unannounced at a hotel and cannot be measured as part of the booking cycle as they are hard to predi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v Transient Roo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group and transient makeup of a hotel depends on many factors including location type, service level, target market, size and other fac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ample relationship at a fictitious downtown hotel is as follow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955960" y="3683160"/>
            <a:ext cx="3200400" cy="2193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955960" y="5054760"/>
            <a:ext cx="457200" cy="82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413160" y="4689360"/>
            <a:ext cx="457200" cy="11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3870360" y="4322880"/>
            <a:ext cx="457200" cy="1554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4327560" y="4505400"/>
            <a:ext cx="45720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784760" y="5146560"/>
            <a:ext cx="457200" cy="730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241960" y="5054760"/>
            <a:ext cx="457200" cy="82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5699160" y="5419800"/>
            <a:ext cx="457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411280" y="50878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2411280" y="46306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2411280" y="41734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2411280" y="37162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2411280" y="55450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18"/>
          <p:cNvSpPr/>
          <p:nvPr/>
        </p:nvSpPr>
        <p:spPr>
          <a:xfrm rot="16200000">
            <a:off x="1224720" y="46274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umber of Hotel Sleeping Room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2544840" y="293976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21"/>
          <p:cNvSpPr/>
          <p:nvPr/>
        </p:nvSpPr>
        <p:spPr>
          <a:xfrm>
            <a:off x="2971800" y="58525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    T     W    T     F     S   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4859280" y="407664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nsient Room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3419640" y="5373720"/>
            <a:ext cx="1223640" cy="246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Group Room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7740720" y="595008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ure 3-1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eservation Avenu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hotel that wants to minimise the opportunity cost associated with transient sleeping room sales will incorporate as man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ervation avenu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 po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servation avenue is defined as the means by which a guest is able to make a reservation at a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eater the access guests have to specific hotels, the more likely they are to bo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ansient Reservation Avenues (Cont…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most common reservation avenues ar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DS system (Global Distribution System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S (Central Reservation System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rect travel agent or travel management company conta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rect guest contra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DS Syst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lobal Distribution System (GDS) is a network of travel and hospitality entities that communicate via an integrated computer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puter systems were developed by airlines to link their availability to travel ag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 fee agreements hotels and car rental companies now also link their individual products to the GDS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entral reservation systems provides the customer with an avenue to locate a hotel of choice in a certain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an easy to find toll free number such as 1800-hotels-1 or Web site such as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www.agoda.co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hyatt.co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CRS can generate demand for a hotel through pricing OR brand loy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avel Agent or Travel Management Compan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in the transient reservation process, travel agents and travel management companies act as intermediaries, making money in one of two way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They may charge a fl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ment f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They are paid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i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rect Guest Conta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uests themselves can make a reservation via phone, fax or 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hotels offer a direct booking capability on their webs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eservation Avenu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31"/>
          <p:cNvSpPr/>
          <p:nvPr/>
        </p:nvSpPr>
        <p:spPr>
          <a:xfrm>
            <a:off x="3348000" y="2116080"/>
            <a:ext cx="23763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ient Gu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32"/>
          <p:cNvSpPr/>
          <p:nvPr/>
        </p:nvSpPr>
        <p:spPr>
          <a:xfrm>
            <a:off x="3348000" y="5157720"/>
            <a:ext cx="23763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33"/>
          <p:cNvSpPr/>
          <p:nvPr/>
        </p:nvSpPr>
        <p:spPr>
          <a:xfrm>
            <a:off x="755640" y="2836800"/>
            <a:ext cx="2376360" cy="580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vel Mgmt Co or Travel Ag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34"/>
          <p:cNvSpPr/>
          <p:nvPr/>
        </p:nvSpPr>
        <p:spPr>
          <a:xfrm>
            <a:off x="5940360" y="3629160"/>
            <a:ext cx="237672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35"/>
          <p:cNvSpPr/>
          <p:nvPr/>
        </p:nvSpPr>
        <p:spPr>
          <a:xfrm>
            <a:off x="755640" y="4276800"/>
            <a:ext cx="23763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36"/>
          <p:cNvSpPr/>
          <p:nvPr/>
        </p:nvSpPr>
        <p:spPr>
          <a:xfrm>
            <a:off x="5724360" y="2349360"/>
            <a:ext cx="1522440" cy="1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37"/>
          <p:cNvSpPr/>
          <p:nvPr/>
        </p:nvSpPr>
        <p:spPr>
          <a:xfrm flipH="1">
            <a:off x="7236000" y="2351160"/>
            <a:ext cx="10800" cy="12938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38"/>
          <p:cNvSpPr/>
          <p:nvPr/>
        </p:nvSpPr>
        <p:spPr>
          <a:xfrm>
            <a:off x="7236000" y="4005360"/>
            <a:ext cx="0" cy="1368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39"/>
          <p:cNvSpPr/>
          <p:nvPr/>
        </p:nvSpPr>
        <p:spPr>
          <a:xfrm flipH="1">
            <a:off x="5724360" y="5373720"/>
            <a:ext cx="15098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40"/>
          <p:cNvSpPr/>
          <p:nvPr/>
        </p:nvSpPr>
        <p:spPr>
          <a:xfrm>
            <a:off x="4427640" y="2492280"/>
            <a:ext cx="0" cy="2665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41"/>
          <p:cNvSpPr/>
          <p:nvPr/>
        </p:nvSpPr>
        <p:spPr>
          <a:xfrm>
            <a:off x="5075280" y="2492280"/>
            <a:ext cx="0" cy="2665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42"/>
          <p:cNvSpPr/>
          <p:nvPr/>
        </p:nvSpPr>
        <p:spPr>
          <a:xfrm>
            <a:off x="3132000" y="2924280"/>
            <a:ext cx="576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43"/>
          <p:cNvSpPr/>
          <p:nvPr/>
        </p:nvSpPr>
        <p:spPr>
          <a:xfrm flipH="1">
            <a:off x="3704760" y="2924280"/>
            <a:ext cx="3240" cy="2233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44"/>
          <p:cNvSpPr/>
          <p:nvPr/>
        </p:nvSpPr>
        <p:spPr>
          <a:xfrm flipH="1">
            <a:off x="1753920" y="2276640"/>
            <a:ext cx="159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Line 45"/>
          <p:cNvSpPr/>
          <p:nvPr/>
        </p:nvSpPr>
        <p:spPr>
          <a:xfrm flipH="1">
            <a:off x="1754280" y="2276640"/>
            <a:ext cx="9360" cy="576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46"/>
          <p:cNvSpPr/>
          <p:nvPr/>
        </p:nvSpPr>
        <p:spPr>
          <a:xfrm>
            <a:off x="1762200" y="3429000"/>
            <a:ext cx="1440" cy="863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47"/>
          <p:cNvSpPr/>
          <p:nvPr/>
        </p:nvSpPr>
        <p:spPr>
          <a:xfrm>
            <a:off x="1752480" y="4653000"/>
            <a:ext cx="11160" cy="720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48"/>
          <p:cNvSpPr/>
          <p:nvPr/>
        </p:nvSpPr>
        <p:spPr>
          <a:xfrm>
            <a:off x="1754280" y="5372280"/>
            <a:ext cx="1593720" cy="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49"/>
          <p:cNvSpPr/>
          <p:nvPr/>
        </p:nvSpPr>
        <p:spPr>
          <a:xfrm rot="16200000">
            <a:off x="3084120" y="34909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ia Phone or Fa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50"/>
          <p:cNvSpPr/>
          <p:nvPr/>
        </p:nvSpPr>
        <p:spPr>
          <a:xfrm rot="16200000">
            <a:off x="3731760" y="32022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ia Intern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7667640" y="589104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ure 3-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 seg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portion or segment of the actual or potential business mix at any given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ing this business pool into segments with similar characteristics is cal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rket segments are corporate, association and SMER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rket segments are business and plea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Typical Lodging Gu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39"/>
          <p:cNvGrpSpPr/>
          <p:nvPr/>
        </p:nvGrpSpPr>
        <p:grpSpPr>
          <a:xfrm>
            <a:off x="271440" y="2362320"/>
            <a:ext cx="8339040" cy="761760"/>
            <a:chOff x="271440" y="2362320"/>
            <a:chExt cx="8339040" cy="761760"/>
          </a:xfrm>
        </p:grpSpPr>
        <p:sp>
          <p:nvSpPr>
            <p:cNvPr id="97" name="Text Box 4"/>
            <p:cNvSpPr/>
            <p:nvPr/>
          </p:nvSpPr>
          <p:spPr>
            <a:xfrm>
              <a:off x="533520" y="243828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8" name="Group 31"/>
            <p:cNvGrpSpPr/>
            <p:nvPr/>
          </p:nvGrpSpPr>
          <p:grpSpPr>
            <a:xfrm>
              <a:off x="271440" y="2362320"/>
              <a:ext cx="2014560" cy="761760"/>
              <a:chOff x="271440" y="2362320"/>
              <a:chExt cx="2014560" cy="761760"/>
            </a:xfrm>
          </p:grpSpPr>
          <p:sp>
            <p:nvSpPr>
              <p:cNvPr id="99" name="Rectangle 7"/>
              <p:cNvSpPr/>
              <p:nvPr/>
            </p:nvSpPr>
            <p:spPr>
              <a:xfrm>
                <a:off x="271440" y="2362320"/>
                <a:ext cx="1981080" cy="76176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Text Box 8"/>
              <p:cNvSpPr/>
              <p:nvPr/>
            </p:nvSpPr>
            <p:spPr>
              <a:xfrm>
                <a:off x="304920" y="257184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8.8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1" name="Group 35"/>
            <p:cNvGrpSpPr/>
            <p:nvPr/>
          </p:nvGrpSpPr>
          <p:grpSpPr>
            <a:xfrm>
              <a:off x="2324160" y="2362320"/>
              <a:ext cx="5905440" cy="761760"/>
              <a:chOff x="2324160" y="2362320"/>
              <a:chExt cx="5905440" cy="761760"/>
            </a:xfrm>
          </p:grpSpPr>
          <p:sp>
            <p:nvSpPr>
              <p:cNvPr id="102" name="Rectangle 9"/>
              <p:cNvSpPr/>
              <p:nvPr/>
            </p:nvSpPr>
            <p:spPr>
              <a:xfrm>
                <a:off x="2324160" y="2362320"/>
                <a:ext cx="5905440" cy="76176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Text Box 13"/>
              <p:cNvSpPr/>
              <p:nvPr/>
            </p:nvSpPr>
            <p:spPr>
              <a:xfrm>
                <a:off x="2400480" y="2514600"/>
                <a:ext cx="56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transient business travelers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04" name="Group 40"/>
          <p:cNvGrpSpPr/>
          <p:nvPr/>
        </p:nvGrpSpPr>
        <p:grpSpPr>
          <a:xfrm>
            <a:off x="271440" y="3200400"/>
            <a:ext cx="8339040" cy="762120"/>
            <a:chOff x="271440" y="3200400"/>
            <a:chExt cx="8339040" cy="762120"/>
          </a:xfrm>
        </p:grpSpPr>
        <p:sp>
          <p:nvSpPr>
            <p:cNvPr id="105" name="Text Box 14"/>
            <p:cNvSpPr/>
            <p:nvPr/>
          </p:nvSpPr>
          <p:spPr>
            <a:xfrm>
              <a:off x="533520" y="327672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6" name="Group 32"/>
            <p:cNvGrpSpPr/>
            <p:nvPr/>
          </p:nvGrpSpPr>
          <p:grpSpPr>
            <a:xfrm>
              <a:off x="271440" y="3200400"/>
              <a:ext cx="2014560" cy="762120"/>
              <a:chOff x="271440" y="3200400"/>
              <a:chExt cx="2014560" cy="762120"/>
            </a:xfrm>
          </p:grpSpPr>
          <p:sp>
            <p:nvSpPr>
              <p:cNvPr id="107" name="Rectangle 15"/>
              <p:cNvSpPr/>
              <p:nvPr/>
            </p:nvSpPr>
            <p:spPr>
              <a:xfrm>
                <a:off x="271440" y="320040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Text Box 16"/>
              <p:cNvSpPr/>
              <p:nvPr/>
            </p:nvSpPr>
            <p:spPr>
              <a:xfrm>
                <a:off x="304920" y="340992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5.3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36"/>
            <p:cNvGrpSpPr/>
            <p:nvPr/>
          </p:nvGrpSpPr>
          <p:grpSpPr>
            <a:xfrm>
              <a:off x="2324160" y="3200400"/>
              <a:ext cx="5905440" cy="762120"/>
              <a:chOff x="2324160" y="3200400"/>
              <a:chExt cx="5905440" cy="762120"/>
            </a:xfrm>
          </p:grpSpPr>
          <p:sp>
            <p:nvSpPr>
              <p:cNvPr id="110" name="Rectangle 17"/>
              <p:cNvSpPr/>
              <p:nvPr/>
            </p:nvSpPr>
            <p:spPr>
              <a:xfrm>
                <a:off x="2324160" y="320040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Text Box 18"/>
              <p:cNvSpPr/>
              <p:nvPr/>
            </p:nvSpPr>
            <p:spPr>
              <a:xfrm>
                <a:off x="2400480" y="3352680"/>
                <a:ext cx="56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attending a conference/group meeting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12" name="Group 41"/>
          <p:cNvGrpSpPr/>
          <p:nvPr/>
        </p:nvGrpSpPr>
        <p:grpSpPr>
          <a:xfrm>
            <a:off x="271440" y="4038480"/>
            <a:ext cx="8339040" cy="762120"/>
            <a:chOff x="271440" y="4038480"/>
            <a:chExt cx="8339040" cy="762120"/>
          </a:xfrm>
        </p:grpSpPr>
        <p:sp>
          <p:nvSpPr>
            <p:cNvPr id="113" name="Text Box 19"/>
            <p:cNvSpPr/>
            <p:nvPr/>
          </p:nvSpPr>
          <p:spPr>
            <a:xfrm>
              <a:off x="533520" y="411480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4" name="Group 33"/>
            <p:cNvGrpSpPr/>
            <p:nvPr/>
          </p:nvGrpSpPr>
          <p:grpSpPr>
            <a:xfrm>
              <a:off x="271440" y="4038480"/>
              <a:ext cx="2014560" cy="762120"/>
              <a:chOff x="271440" y="4038480"/>
              <a:chExt cx="2014560" cy="762120"/>
            </a:xfrm>
          </p:grpSpPr>
          <p:sp>
            <p:nvSpPr>
              <p:cNvPr id="115" name="Rectangle 20"/>
              <p:cNvSpPr/>
              <p:nvPr/>
            </p:nvSpPr>
            <p:spPr>
              <a:xfrm>
                <a:off x="271440" y="403848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Text Box 21"/>
              <p:cNvSpPr/>
              <p:nvPr/>
            </p:nvSpPr>
            <p:spPr>
              <a:xfrm>
                <a:off x="304920" y="424800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4.6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Group 37"/>
            <p:cNvGrpSpPr/>
            <p:nvPr/>
          </p:nvGrpSpPr>
          <p:grpSpPr>
            <a:xfrm>
              <a:off x="2324160" y="4038480"/>
              <a:ext cx="5905440" cy="762120"/>
              <a:chOff x="2324160" y="4038480"/>
              <a:chExt cx="5905440" cy="762120"/>
            </a:xfrm>
          </p:grpSpPr>
          <p:sp>
            <p:nvSpPr>
              <p:cNvPr id="118" name="Rectangle 22"/>
              <p:cNvSpPr/>
              <p:nvPr/>
            </p:nvSpPr>
            <p:spPr>
              <a:xfrm>
                <a:off x="2324160" y="403848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Text Box 23"/>
              <p:cNvSpPr/>
              <p:nvPr/>
            </p:nvSpPr>
            <p:spPr>
              <a:xfrm>
                <a:off x="2400480" y="4191120"/>
                <a:ext cx="56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on vacation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0" name="Group 42"/>
          <p:cNvGrpSpPr/>
          <p:nvPr/>
        </p:nvGrpSpPr>
        <p:grpSpPr>
          <a:xfrm>
            <a:off x="271440" y="4896000"/>
            <a:ext cx="8339040" cy="819000"/>
            <a:chOff x="271440" y="4896000"/>
            <a:chExt cx="8339040" cy="819000"/>
          </a:xfrm>
        </p:grpSpPr>
        <p:sp>
          <p:nvSpPr>
            <p:cNvPr id="121" name="Text Box 24"/>
            <p:cNvSpPr/>
            <p:nvPr/>
          </p:nvSpPr>
          <p:spPr>
            <a:xfrm>
              <a:off x="533520" y="502920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2" name="Group 34"/>
            <p:cNvGrpSpPr/>
            <p:nvPr/>
          </p:nvGrpSpPr>
          <p:grpSpPr>
            <a:xfrm>
              <a:off x="271440" y="4952880"/>
              <a:ext cx="2014560" cy="762120"/>
              <a:chOff x="271440" y="4952880"/>
              <a:chExt cx="2014560" cy="762120"/>
            </a:xfrm>
          </p:grpSpPr>
          <p:sp>
            <p:nvSpPr>
              <p:cNvPr id="123" name="Rectangle 25"/>
              <p:cNvSpPr/>
              <p:nvPr/>
            </p:nvSpPr>
            <p:spPr>
              <a:xfrm>
                <a:off x="271440" y="495288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Text Box 26"/>
              <p:cNvSpPr/>
              <p:nvPr/>
            </p:nvSpPr>
            <p:spPr>
              <a:xfrm>
                <a:off x="304920" y="516240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1.8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5" name="Group 38"/>
            <p:cNvGrpSpPr/>
            <p:nvPr/>
          </p:nvGrpSpPr>
          <p:grpSpPr>
            <a:xfrm>
              <a:off x="2324160" y="4896000"/>
              <a:ext cx="5905440" cy="819000"/>
              <a:chOff x="2324160" y="4896000"/>
              <a:chExt cx="5905440" cy="819000"/>
            </a:xfrm>
          </p:grpSpPr>
          <p:sp>
            <p:nvSpPr>
              <p:cNvPr id="126" name="Rectangle 27"/>
              <p:cNvSpPr/>
              <p:nvPr/>
            </p:nvSpPr>
            <p:spPr>
              <a:xfrm>
                <a:off x="2324160" y="495288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Text Box 28"/>
              <p:cNvSpPr/>
              <p:nvPr/>
            </p:nvSpPr>
            <p:spPr>
              <a:xfrm>
                <a:off x="2400480" y="4896000"/>
                <a:ext cx="5638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traveling for other reasons (for example, personal, family, or special event)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Market Seg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rpor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rket segment consists of for-profit companies and frequently pays higher rates than other segments to ensure quality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socia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 segment consists of groups of individuals or companies that share common purposes or goals, and is more cost-conscious than the corporate seg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Market Segments (Cont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MERF segment consists of groups that have characteristics that set them apart from the previous two categories, and has five primary compon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00000" y="3457440"/>
          <a:ext cx="7272360" cy="2347920"/>
        </p:xfrm>
        <a:graphic>
          <a:graphicData uri="http://schemas.openxmlformats.org/drawingml/2006/table">
            <a:tbl>
              <a:tblPr/>
              <a:tblGrid>
                <a:gridCol w="3000600"/>
                <a:gridCol w="42717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mary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ddings, Proms, Fund Raisers, e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ions, Award Ceremo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c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inuing Education, Classes,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igi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vals, Enlightenment Gather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ter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ternities, Soror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Seg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sin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uest is one who stays at a hotel because of its location in relation to another organ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usiness guest makes his/her hotel choice based on many factors, but one of the most common is brand loy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hotels offer various incentives for guest loy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Segment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leasu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uest stays at  hotel because of its proximity to an attraction and/or because of a signature attraction at the hotel itsel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ignature attraction is an event, activity or facility identified with a specific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Room Dema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llowing figure illustrates how both group and transient market segments come together to make up guest room de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4" descr="j0310022[1]"/>
          <p:cNvPicPr/>
          <p:nvPr/>
        </p:nvPicPr>
        <p:blipFill>
          <a:blip r:embed="rId1"/>
          <a:stretch/>
        </p:blipFill>
        <p:spPr>
          <a:xfrm>
            <a:off x="3203640" y="2997360"/>
            <a:ext cx="2720880" cy="30668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4067280" y="3689280"/>
            <a:ext cx="1008000" cy="1110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t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ues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m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826920" y="3141720"/>
            <a:ext cx="136872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826920" y="4149720"/>
            <a:ext cx="136872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826920" y="5302080"/>
            <a:ext cx="1368720" cy="64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6732720" y="4797360"/>
            <a:ext cx="136836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6732720" y="3430440"/>
            <a:ext cx="1368360" cy="64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11"/>
          <p:cNvSpPr/>
          <p:nvPr/>
        </p:nvSpPr>
        <p:spPr>
          <a:xfrm>
            <a:off x="2124000" y="364500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2195640" y="44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13"/>
          <p:cNvSpPr/>
          <p:nvPr/>
        </p:nvSpPr>
        <p:spPr>
          <a:xfrm flipV="1">
            <a:off x="2052720" y="4581000"/>
            <a:ext cx="5745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Line 14"/>
          <p:cNvSpPr/>
          <p:nvPr/>
        </p:nvSpPr>
        <p:spPr>
          <a:xfrm flipH="1">
            <a:off x="6444720" y="393372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15"/>
          <p:cNvSpPr/>
          <p:nvPr/>
        </p:nvSpPr>
        <p:spPr>
          <a:xfrm flipH="1" flipV="1">
            <a:off x="6444720" y="4509720"/>
            <a:ext cx="358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334800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17"/>
          <p:cNvSpPr/>
          <p:nvPr/>
        </p:nvSpPr>
        <p:spPr>
          <a:xfrm flipH="1">
            <a:off x="5365440" y="4438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5653080" y="429408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6950160" y="494172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leas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6877080" y="357336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2700360" y="42926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u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1116000" y="54594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MER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900000" y="4365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971640" y="335772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7667640" y="5950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ure 3-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32"/>
          <p:cNvGrpSpPr/>
          <p:nvPr/>
        </p:nvGrpSpPr>
        <p:grpSpPr>
          <a:xfrm>
            <a:off x="380880" y="1181160"/>
            <a:ext cx="8229600" cy="1085760"/>
            <a:chOff x="380880" y="1181160"/>
            <a:chExt cx="8229600" cy="1085760"/>
          </a:xfrm>
        </p:grpSpPr>
        <p:sp>
          <p:nvSpPr>
            <p:cNvPr id="129" name="Rectangle 7"/>
            <p:cNvSpPr/>
            <p:nvPr/>
          </p:nvSpPr>
          <p:spPr>
            <a:xfrm>
              <a:off x="380880" y="1181160"/>
              <a:ext cx="8229600" cy="1085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0" name="Picture 8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06520" y="127332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9"/>
            <p:cNvSpPr/>
            <p:nvPr/>
          </p:nvSpPr>
          <p:spPr>
            <a:xfrm>
              <a:off x="1058760" y="125424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mphasis on safety, cleanliness &amp; servic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Guests also consider “intangible” aspects of the purcha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Lodging Industry Character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3" name="Group 33"/>
          <p:cNvGrpSpPr/>
          <p:nvPr/>
        </p:nvGrpSpPr>
        <p:grpSpPr>
          <a:xfrm>
            <a:off x="380880" y="2308320"/>
            <a:ext cx="8229600" cy="815760"/>
            <a:chOff x="380880" y="2308320"/>
            <a:chExt cx="8229600" cy="815760"/>
          </a:xfrm>
        </p:grpSpPr>
        <p:sp>
          <p:nvSpPr>
            <p:cNvPr id="134" name="Rectangle 18"/>
            <p:cNvSpPr/>
            <p:nvPr/>
          </p:nvSpPr>
          <p:spPr>
            <a:xfrm>
              <a:off x="380880" y="2308320"/>
              <a:ext cx="8229600" cy="815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5" name="Picture 1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06520" y="2400120"/>
              <a:ext cx="53964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0"/>
            <p:cNvSpPr/>
            <p:nvPr/>
          </p:nvSpPr>
          <p:spPr>
            <a:xfrm>
              <a:off x="1058760" y="2381040"/>
              <a:ext cx="73994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separability of manufacture &amp; sal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 room exists &amp; is sold at the same sit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" name="Group 34"/>
          <p:cNvGrpSpPr/>
          <p:nvPr/>
        </p:nvGrpSpPr>
        <p:grpSpPr>
          <a:xfrm>
            <a:off x="380880" y="3200400"/>
            <a:ext cx="8229600" cy="1044720"/>
            <a:chOff x="380880" y="3200400"/>
            <a:chExt cx="8229600" cy="1044720"/>
          </a:xfrm>
        </p:grpSpPr>
        <p:sp>
          <p:nvSpPr>
            <p:cNvPr id="138" name="Rectangle 21"/>
            <p:cNvSpPr/>
            <p:nvPr/>
          </p:nvSpPr>
          <p:spPr>
            <a:xfrm>
              <a:off x="380880" y="3200400"/>
              <a:ext cx="8229600" cy="1044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9" name="Picture 2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06520" y="325440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23"/>
            <p:cNvSpPr/>
            <p:nvPr/>
          </p:nvSpPr>
          <p:spPr>
            <a:xfrm>
              <a:off x="1058760" y="325440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erishabilit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- If a room is not rented on a specific date, the revenue i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ost foreve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1" name="Group 35"/>
          <p:cNvGrpSpPr/>
          <p:nvPr/>
        </p:nvGrpSpPr>
        <p:grpSpPr>
          <a:xfrm>
            <a:off x="380880" y="4308480"/>
            <a:ext cx="8229600" cy="720720"/>
            <a:chOff x="380880" y="4308480"/>
            <a:chExt cx="8229600" cy="720720"/>
          </a:xfrm>
        </p:grpSpPr>
        <p:sp>
          <p:nvSpPr>
            <p:cNvPr id="142" name="Rectangle 24"/>
            <p:cNvSpPr/>
            <p:nvPr/>
          </p:nvSpPr>
          <p:spPr>
            <a:xfrm>
              <a:off x="380880" y="4308480"/>
              <a:ext cx="8229600" cy="72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3" name="Picture 25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06520" y="440064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6"/>
            <p:cNvSpPr/>
            <p:nvPr/>
          </p:nvSpPr>
          <p:spPr>
            <a:xfrm>
              <a:off x="1058760" y="4381560"/>
              <a:ext cx="73994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petitivenes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- Some operating procedures are routin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" name="Group 36"/>
          <p:cNvGrpSpPr/>
          <p:nvPr/>
        </p:nvGrpSpPr>
        <p:grpSpPr>
          <a:xfrm>
            <a:off x="380880" y="5032440"/>
            <a:ext cx="8229600" cy="1063440"/>
            <a:chOff x="380880" y="5032440"/>
            <a:chExt cx="8229600" cy="1063440"/>
          </a:xfrm>
        </p:grpSpPr>
        <p:sp>
          <p:nvSpPr>
            <p:cNvPr id="146" name="Rectangle 27"/>
            <p:cNvSpPr/>
            <p:nvPr/>
          </p:nvSpPr>
          <p:spPr>
            <a:xfrm>
              <a:off x="380880" y="5032440"/>
              <a:ext cx="8229600" cy="1063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7" name="Picture 28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06520" y="512460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29"/>
            <p:cNvSpPr/>
            <p:nvPr/>
          </p:nvSpPr>
          <p:spPr>
            <a:xfrm>
              <a:off x="1058760" y="510552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abor Intensiv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- Much of a hotel’s daily work involves employe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viding servic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37"/>
          <p:cNvGrpSpPr/>
          <p:nvPr/>
        </p:nvGrpSpPr>
        <p:grpSpPr>
          <a:xfrm>
            <a:off x="457200" y="4876920"/>
            <a:ext cx="8153280" cy="1199880"/>
            <a:chOff x="457200" y="4876920"/>
            <a:chExt cx="8153280" cy="1199880"/>
          </a:xfrm>
        </p:grpSpPr>
        <p:sp>
          <p:nvSpPr>
            <p:cNvPr id="150" name="Rectangle 28"/>
            <p:cNvSpPr/>
            <p:nvPr/>
          </p:nvSpPr>
          <p:spPr>
            <a:xfrm>
              <a:off x="457200" y="4876920"/>
              <a:ext cx="8153280" cy="1199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1" name="Picture 30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514332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31"/>
            <p:cNvSpPr/>
            <p:nvPr/>
          </p:nvSpPr>
          <p:spPr>
            <a:xfrm>
              <a:off x="1009800" y="5060880"/>
              <a:ext cx="744840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arious amenities (e.g., business centers) increase costs for hotel owners yet sometimes appeal to only a small segment of the hotel’s market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" name="Group 36"/>
          <p:cNvGrpSpPr/>
          <p:nvPr/>
        </p:nvGrpSpPr>
        <p:grpSpPr>
          <a:xfrm>
            <a:off x="457200" y="3657600"/>
            <a:ext cx="8153280" cy="914400"/>
            <a:chOff x="457200" y="3657600"/>
            <a:chExt cx="8153280" cy="914400"/>
          </a:xfrm>
        </p:grpSpPr>
        <p:sp>
          <p:nvSpPr>
            <p:cNvPr id="154" name="Rectangle 24"/>
            <p:cNvSpPr/>
            <p:nvPr/>
          </p:nvSpPr>
          <p:spPr>
            <a:xfrm>
              <a:off x="457200" y="3657600"/>
              <a:ext cx="81532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5" name="Picture 26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39243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27"/>
            <p:cNvSpPr/>
            <p:nvPr/>
          </p:nvSpPr>
          <p:spPr>
            <a:xfrm>
              <a:off x="1009800" y="3898800"/>
              <a:ext cx="7448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sults in a more competitive selling environment for hoteliers (e.g., online room booking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" name="Group 35"/>
          <p:cNvGrpSpPr/>
          <p:nvPr/>
        </p:nvGrpSpPr>
        <p:grpSpPr>
          <a:xfrm>
            <a:off x="457200" y="2587680"/>
            <a:ext cx="8153280" cy="914400"/>
            <a:chOff x="457200" y="2587680"/>
            <a:chExt cx="8153280" cy="914400"/>
          </a:xfrm>
        </p:grpSpPr>
        <p:sp>
          <p:nvSpPr>
            <p:cNvPr id="158" name="Rectangle 20"/>
            <p:cNvSpPr/>
            <p:nvPr/>
          </p:nvSpPr>
          <p:spPr>
            <a:xfrm>
              <a:off x="457200" y="2587680"/>
              <a:ext cx="81532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9" name="Picture 2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285444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23"/>
            <p:cNvSpPr/>
            <p:nvPr/>
          </p:nvSpPr>
          <p:spPr>
            <a:xfrm>
              <a:off x="1009800" y="2829240"/>
              <a:ext cx="7448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he more  the number of brands increase, the harder consumers find it to differentiate between them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1" name="Group 34"/>
          <p:cNvGrpSpPr/>
          <p:nvPr/>
        </p:nvGrpSpPr>
        <p:grpSpPr>
          <a:xfrm>
            <a:off x="457200" y="1428840"/>
            <a:ext cx="8153280" cy="895320"/>
            <a:chOff x="457200" y="1428840"/>
            <a:chExt cx="8153280" cy="895320"/>
          </a:xfrm>
        </p:grpSpPr>
        <p:sp>
          <p:nvSpPr>
            <p:cNvPr id="162" name="Rectangle 4"/>
            <p:cNvSpPr/>
            <p:nvPr/>
          </p:nvSpPr>
          <p:spPr>
            <a:xfrm>
              <a:off x="457200" y="1428840"/>
              <a:ext cx="8153280" cy="895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63" name="Picture 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609480" y="177156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7"/>
            <p:cNvSpPr/>
            <p:nvPr/>
          </p:nvSpPr>
          <p:spPr>
            <a:xfrm>
              <a:off x="1009800" y="1670040"/>
              <a:ext cx="74484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fforts to focus on a highly defined, smaller group of travelers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" name="Text Box 5"/>
          <p:cNvSpPr/>
          <p:nvPr/>
        </p:nvSpPr>
        <p:spPr>
          <a:xfrm>
            <a:off x="457200" y="1200240"/>
            <a:ext cx="487692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rket segmentation is increa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Current Issues confronting Hoteliers: Marketing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457200" y="2362320"/>
            <a:ext cx="259092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nds overl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457200" y="3505320"/>
            <a:ext cx="533412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reased sophistication of consum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457200" y="4648320"/>
            <a:ext cx="426708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reased number of amen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tent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om Sales Differenti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up Roo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ient Roo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ient Reservation Aven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up Market Seg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ient Market Seg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om Sales Differentiation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up catering contribution plays an important role in food and beverage revenue and also impacts the sleeping room portion of the hotel success triangle (see tex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upancy is the measurement of room sales verses available 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ooms that are sold fall into two categories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bination of these two groups makes up the hotel’s occupa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Roo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 roo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iginate from reservations that are made to bring more than one guest to the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 rooms involve a series of bookings that correspond to specific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hotels consider bookings of 10 or more rooms per night a group boo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urpose of the group room sales effort is to seek group bookings and bring them to the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Room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s sales is counted upon to fill a certain number of hotel rooms per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up base is the measurement of how many group rooms are “on the books” on a given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groups can be booked far in advance, they are sought af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important to note that group rooms are often offered at lower 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oom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ient rooms are rooms that originate from individual reserv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ient rooms are non-group 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differ from group rooms as there is no way to predict when these guests will arr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ing the level of individual reservations on any given night is diffic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ing at historical data helps in determining the most likely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11T09:14:54Z</dcterms:modified>
  <cp:revision>98</cp:revision>
  <dc:subject/>
  <dc:title>FRONT OFFICE OPERATIONS MANAGEMENT</dc:title>
</cp:coreProperties>
</file>